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696EE-40DD-45B6-A236-F72ADD552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1F9D8-618A-403A-BED5-00DEC0B9F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11B30-4CDE-4E25-9899-25A29AD1B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50C6F-7C14-45CC-A1E2-454A7F5B4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1298F-0A96-461F-BFBB-D4DBC54E7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D3365-098D-4A57-9F4C-4FC008174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8496D-6572-4293-81D3-F63C1C70A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3FA1D-91CE-4F03-A201-54CCDE5DB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8BF75-BF7F-4C91-84F8-D5C78742A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1FD59-E80C-4F83-B7DB-CE1D4FA7A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3764F-FE49-4A4F-90AD-E03741F94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0C64A-B709-4CFC-8C67-58FB750EE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BB2C3-E0BB-48F3-92A5-3EB0439FD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FBDCE-5609-4C3B-80BE-39DA034C4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88011-83C4-4C5E-8D0A-0F65836C7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5F7DD-FAD7-49BF-A27A-3202C631C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AA9D9-3E52-40FE-A625-F59D4430A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07663-61E1-4248-B83B-F4881CA22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DE54A-A9C8-45D6-9C36-E96378DA3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1F5F7-4940-41F4-9D90-8CAC349FF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3EC6A-6A4F-4B78-947B-835DB7620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AF17F-655B-4E13-9254-433B2B7EA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25F77-40C9-431B-9AAA-CC6922181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C75A5-3F1F-482D-9D67-A153EC3F3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62332-755B-4B3C-8D41-8CC10EBB028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F0874-622C-402C-AE73-EF32B7B5635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b7"/>
                </a:solidFill>
                <a:latin typeface="Arial Black"/>
              </a:rPr>
              <a:t>The Wonderful World of Geography</a:t>
            </a:r>
            <a:r>
              <a:rPr b="1" lang="en-US" sz="48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1" lang="en-US" sz="4800" spc="-1" strike="noStrike">
                <a:solidFill>
                  <a:srgbClr val="ffffb7"/>
                </a:solidFill>
                <a:latin typeface="Arial Black"/>
              </a:rPr>
              <a:t>	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roduction to Geograph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What is Geography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tudy of the Ear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cus on earth’s landforms and featu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are some ways in which you use geography in your everyday lif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5 Themes of Geography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l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uman/Environment Intera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v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gio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Location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	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ery point on Earth has a specific location that is determined by an imaginary grid of lines denoting latitude and longitude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bsolute lo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lative lo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lac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 places have characteristics, both human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an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physical, that give them meaning and character and distinguish them from other places on eart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amples of human characterist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amples of physical characterist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Human/Environment Interaction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ographers look at all the effects, both positive and negative, that occur when people interact with their surrounding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y studying the consequences of human/environment interaction, we are able to plan and manage the environment responsibly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amples of human/environment intera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Movemen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 people move from one place to another, they interact with other people, places, and thing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communicate with each other; and they rely upon products, information, and ideas that come from beyond their immediate environment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amples of mov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Region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basic unit of geographic study is the region, an area on the earth’s surface that is defined by certain unifying characteristic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unifying characteristics may be physical, human, or cultural. In addition to studying the unifying characteristics of a region, geographers study how a region changes over times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amples of regions and their chang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Tonight’s Homework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ad 1.3 (pp.14-15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fine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l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1.3 boldface term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 class handout p.20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7T15:03:59Z</dcterms:created>
  <dc:creator>vevans</dc:creator>
  <dc:description/>
  <dc:language>en-US</dc:language>
  <cp:lastModifiedBy>vevans</cp:lastModifiedBy>
  <dcterms:modified xsi:type="dcterms:W3CDTF">2009-08-18T03:37:39Z</dcterms:modified>
  <cp:revision>17</cp:revision>
  <dc:subject/>
  <dc:title>The Wonderful World of Geography  </dc:title>
</cp:coreProperties>
</file>